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4480" y="706320"/>
            <a:ext cx="46465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69FFF2E-1555-46A6-8075-041F8DEC3F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46BDA8B3-136A-4AF0-A05B-13097444A91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E2554C-F168-4BE3-9F01-0A113D80A1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75D5049-7CDC-478E-A456-3AC6E872E58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AE8-6BE4-48DC-B8F4-A0DE3158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62A-89F9-443D-80A4-14EB00F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88A-443F-43F3-B7DF-7337B657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10C-4EF4-4306-8105-A102CBF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C7F-95CF-42C6-A522-E905913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44E-FEB6-4919-84E9-2336AA9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BAD-4A39-4952-A8C4-D8796CC0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F3D-EDDE-4493-A638-843E05BD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17C-01B1-4518-89FD-FE2B7E8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040-B170-4FD4-9822-9E1C642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123-E56E-4D56-A76B-8398460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594-2958-47A6-91EB-65FC082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2DDE-B1F8-4368-99B7-FBDFB93E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ector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uroweb.med.yale.edu/senselab/senselab-void.ttl#senselabontology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RDF Overview and Up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 Cheung, Ph.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le Center for Medical Infor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8200" y="6980400"/>
            <a:ext cx="722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-SHALS 2009, Boston, Massachusetts,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 to Query Fede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PARQL Endpoint to Link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match between Wikipedia and DB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riple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Data descrip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Copyright 2008 VectorC, LL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04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0"/>
          <p:cNvGrpSpPr/>
          <p:nvPr/>
        </p:nvGrpSpPr>
        <p:grpSpPr>
          <a:xfrm>
            <a:off x="2184480" y="1344600"/>
            <a:ext cx="2015640" cy="1090800"/>
            <a:chOff x="2184480" y="1344600"/>
            <a:chExt cx="2015640" cy="1090800"/>
          </a:xfrm>
        </p:grpSpPr>
        <p:sp>
          <p:nvSpPr>
            <p:cNvPr id="90" name="Rectangle 18"/>
            <p:cNvSpPr/>
            <p:nvPr/>
          </p:nvSpPr>
          <p:spPr>
            <a:xfrm>
              <a:off x="2772360" y="1344600"/>
              <a:ext cx="142776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s involved in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184480" y="1926360"/>
              <a:ext cx="58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71"/>
          <p:cNvGrpSpPr/>
          <p:nvPr/>
        </p:nvGrpSpPr>
        <p:grpSpPr>
          <a:xfrm>
            <a:off x="4200480" y="1344600"/>
            <a:ext cx="2855520" cy="1090800"/>
            <a:chOff x="4200480" y="1344600"/>
            <a:chExt cx="2855520" cy="1090800"/>
          </a:xfrm>
        </p:grpSpPr>
        <p:sp>
          <p:nvSpPr>
            <p:cNvPr id="93" name="Rectangle 19"/>
            <p:cNvSpPr/>
            <p:nvPr/>
          </p:nvSpPr>
          <p:spPr>
            <a:xfrm>
              <a:off x="4620600" y="1344600"/>
              <a:ext cx="24354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s about 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00480" y="19263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2"/>
          <p:cNvGrpSpPr/>
          <p:nvPr/>
        </p:nvGrpSpPr>
        <p:grpSpPr>
          <a:xfrm>
            <a:off x="7056360" y="1344600"/>
            <a:ext cx="2016000" cy="1090800"/>
            <a:chOff x="7056360" y="1344600"/>
            <a:chExt cx="2016000" cy="1090800"/>
          </a:xfrm>
        </p:grpSpPr>
        <p:sp>
          <p:nvSpPr>
            <p:cNvPr id="96" name="Rectangle 23"/>
            <p:cNvSpPr/>
            <p:nvPr/>
          </p:nvSpPr>
          <p:spPr>
            <a:xfrm>
              <a:off x="7560360" y="1344600"/>
              <a:ext cx="15120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trials referencing pub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7056360" y="189000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8120" y="4619520"/>
            <a:ext cx="9912240" cy="2665440"/>
            <a:chOff x="168120" y="4619520"/>
            <a:chExt cx="9912240" cy="2665440"/>
          </a:xfrm>
        </p:grpSpPr>
        <p:sp>
          <p:nvSpPr>
            <p:cNvPr id="99" name="Line 21"/>
            <p:cNvSpPr/>
            <p:nvPr/>
          </p:nvSpPr>
          <p:spPr>
            <a:xfrm>
              <a:off x="8148600" y="4955040"/>
              <a:ext cx="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6"/>
            <p:cNvSpPr/>
            <p:nvPr/>
          </p:nvSpPr>
          <p:spPr>
            <a:xfrm>
              <a:off x="7392600" y="5794920"/>
              <a:ext cx="1595520" cy="75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trials.go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84"/>
            <p:cNvGrpSpPr/>
            <p:nvPr/>
          </p:nvGrpSpPr>
          <p:grpSpPr>
            <a:xfrm>
              <a:off x="5208120" y="4619520"/>
              <a:ext cx="1007640" cy="1931040"/>
              <a:chOff x="5208120" y="4619520"/>
              <a:chExt cx="1007640" cy="1931040"/>
            </a:xfrm>
          </p:grpSpPr>
          <p:sp>
            <p:nvSpPr>
              <p:cNvPr id="102" name="Line 29"/>
              <p:cNvSpPr/>
              <p:nvPr/>
            </p:nvSpPr>
            <p:spPr>
              <a:xfrm>
                <a:off x="5711760" y="4619520"/>
                <a:ext cx="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7"/>
              <p:cNvSpPr/>
              <p:nvPr/>
            </p:nvSpPr>
            <p:spPr>
              <a:xfrm>
                <a:off x="5208120" y="5710680"/>
                <a:ext cx="1007640" cy="8398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86"/>
            <p:cNvGrpSpPr/>
            <p:nvPr/>
          </p:nvGrpSpPr>
          <p:grpSpPr>
            <a:xfrm>
              <a:off x="2100240" y="5290920"/>
              <a:ext cx="1007640" cy="1258920"/>
              <a:chOff x="2100240" y="5290920"/>
              <a:chExt cx="1007640" cy="1258920"/>
            </a:xfrm>
          </p:grpSpPr>
          <p:sp>
            <p:nvSpPr>
              <p:cNvPr id="105" name="AutoShape 73"/>
              <p:cNvSpPr/>
              <p:nvPr/>
            </p:nvSpPr>
            <p:spPr>
              <a:xfrm>
                <a:off x="2100240" y="5710320"/>
                <a:ext cx="100764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ki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>
                <a:off x="2603880" y="5290920"/>
                <a:ext cx="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94"/>
            <p:cNvSpPr/>
            <p:nvPr/>
          </p:nvSpPr>
          <p:spPr>
            <a:xfrm>
              <a:off x="168120" y="5542920"/>
              <a:ext cx="9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6"/>
            <p:cNvSpPr/>
            <p:nvPr/>
          </p:nvSpPr>
          <p:spPr>
            <a:xfrm>
              <a:off x="9156600" y="6635160"/>
              <a:ext cx="9237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120" y="2435400"/>
            <a:ext cx="9743760" cy="3062880"/>
            <a:chOff x="168120" y="2435400"/>
            <a:chExt cx="9743760" cy="3062880"/>
          </a:xfrm>
        </p:grpSpPr>
        <p:grpSp>
          <p:nvGrpSpPr>
            <p:cNvPr id="110" name=""/>
            <p:cNvGrpSpPr/>
            <p:nvPr/>
          </p:nvGrpSpPr>
          <p:grpSpPr>
            <a:xfrm>
              <a:off x="252000" y="2435400"/>
              <a:ext cx="9659160" cy="3062880"/>
              <a:chOff x="252000" y="2435400"/>
              <a:chExt cx="9659160" cy="3062880"/>
            </a:xfrm>
          </p:grpSpPr>
          <p:sp>
            <p:nvSpPr>
              <p:cNvPr id="111" name="Text Box 95"/>
              <p:cNvSpPr/>
              <p:nvPr/>
            </p:nvSpPr>
            <p:spPr>
              <a:xfrm>
                <a:off x="9155520" y="5122800"/>
                <a:ext cx="75564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D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2"/>
              <p:cNvSpPr/>
              <p:nvPr/>
            </p:nvSpPr>
            <p:spPr>
              <a:xfrm>
                <a:off x="3695760" y="3778920"/>
                <a:ext cx="3192120" cy="1595520"/>
              </a:xfrm>
              <a:prstGeom prst="can">
                <a:avLst>
                  <a:gd name="adj" fmla="val 1875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2RD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 flipH="1">
                <a:off x="1091880" y="2435400"/>
                <a:ext cx="3355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>
                <a:off x="7307640" y="3863160"/>
                <a:ext cx="1679760" cy="1259640"/>
              </a:xfrm>
              <a:prstGeom prst="can">
                <a:avLst>
                  <a:gd name="adj" fmla="val 131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kedct.or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0"/>
              <p:cNvSpPr/>
              <p:nvPr/>
            </p:nvSpPr>
            <p:spPr>
              <a:xfrm>
                <a:off x="7391880" y="4534920"/>
                <a:ext cx="1427760" cy="45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trials.gov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0"/>
              <p:cNvSpPr/>
              <p:nvPr/>
            </p:nvSpPr>
            <p:spPr>
              <a:xfrm>
                <a:off x="6719400" y="4618800"/>
                <a:ext cx="6721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8231400" y="2435400"/>
                <a:ext cx="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30"/>
              <p:cNvSpPr/>
              <p:nvPr/>
            </p:nvSpPr>
            <p:spPr>
              <a:xfrm>
                <a:off x="5459400" y="4367160"/>
                <a:ext cx="1259640" cy="45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5123880" y="4534920"/>
                <a:ext cx="33552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6047640" y="2435400"/>
                <a:ext cx="0" cy="19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9"/>
              <p:cNvSpPr/>
              <p:nvPr/>
            </p:nvSpPr>
            <p:spPr>
              <a:xfrm>
                <a:off x="3947400" y="4198680"/>
                <a:ext cx="1176120" cy="587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rez G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3443760" y="2435400"/>
                <a:ext cx="839880" cy="17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52000" y="3863160"/>
                <a:ext cx="142776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CLS K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2"/>
              <p:cNvSpPr/>
              <p:nvPr/>
            </p:nvSpPr>
            <p:spPr>
              <a:xfrm>
                <a:off x="1931760" y="3863160"/>
                <a:ext cx="142812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427760" y="2435400"/>
                <a:ext cx="6721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95880" y="4450680"/>
                <a:ext cx="419760" cy="3358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3280"/>
                    <a:tab algn="l" pos="1006560"/>
                    <a:tab algn="l" pos="1509840"/>
                    <a:tab algn="l" pos="2013120"/>
                    <a:tab algn="l" pos="2516040"/>
                    <a:tab algn="l" pos="3019320"/>
                    <a:tab algn="l" pos="3522600"/>
                    <a:tab algn="l" pos="4025880"/>
                    <a:tab algn="l" pos="4529160"/>
                    <a:tab algn="l" pos="5032440"/>
                    <a:tab algn="l" pos="5535720"/>
                    <a:tab algn="l" pos="6039000"/>
                    <a:tab algn="l" pos="6541920"/>
                    <a:tab algn="l" pos="7045200"/>
                    <a:tab algn="l" pos="7548480"/>
                    <a:tab algn="l" pos="8051760"/>
                    <a:tab algn="l" pos="8555040"/>
                    <a:tab algn="l" pos="9058320"/>
                    <a:tab algn="l" pos="9561600"/>
                    <a:tab algn="l" pos="100648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9"/>
              <p:cNvSpPr/>
              <p:nvPr/>
            </p:nvSpPr>
            <p:spPr>
              <a:xfrm>
                <a:off x="2099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p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335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eLa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 flipV="1">
                <a:off x="3191760" y="4534560"/>
                <a:ext cx="75564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343520" y="4618800"/>
                <a:ext cx="251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5640" y="4618800"/>
                <a:ext cx="167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92"/>
            <p:cNvSpPr/>
            <p:nvPr/>
          </p:nvSpPr>
          <p:spPr>
            <a:xfrm>
              <a:off x="168120" y="36111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8120" y="2687760"/>
            <a:ext cx="9743760" cy="901440"/>
            <a:chOff x="168120" y="2687760"/>
            <a:chExt cx="9743760" cy="901440"/>
          </a:xfrm>
        </p:grpSpPr>
        <p:sp>
          <p:nvSpPr>
            <p:cNvPr id="134" name="Line 92"/>
            <p:cNvSpPr/>
            <p:nvPr/>
          </p:nvSpPr>
          <p:spPr>
            <a:xfrm>
              <a:off x="168120" y="26877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1760" y="2855880"/>
              <a:ext cx="8147880" cy="58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ctorC Semantic Service B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F:\vectorc\docs\www\VectorCWWW\WebContent\images\vectorc_logo.gif"/>
            <p:cNvPicPr/>
            <p:nvPr/>
          </p:nvPicPr>
          <p:blipFill>
            <a:blip r:embed="rId2"/>
            <a:stretch/>
          </p:blipFill>
          <p:spPr>
            <a:xfrm>
              <a:off x="2520000" y="2939400"/>
              <a:ext cx="419760" cy="4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5"/>
            <p:cNvSpPr/>
            <p:nvPr/>
          </p:nvSpPr>
          <p:spPr>
            <a:xfrm>
              <a:off x="9155880" y="2939400"/>
              <a:ext cx="7556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B/S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9880" y="1344600"/>
            <a:ext cx="9072000" cy="1298520"/>
            <a:chOff x="839880" y="1344600"/>
            <a:chExt cx="9072000" cy="1298520"/>
          </a:xfrm>
        </p:grpSpPr>
        <p:sp>
          <p:nvSpPr>
            <p:cNvPr id="139" name="Rectangle 17"/>
            <p:cNvSpPr/>
            <p:nvPr/>
          </p:nvSpPr>
          <p:spPr>
            <a:xfrm>
              <a:off x="839880" y="1344600"/>
              <a:ext cx="1343520" cy="1090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239760" y="2267640"/>
              <a:ext cx="672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9880" y="0"/>
            <a:ext cx="8400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66960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6080" y="808200"/>
            <a:ext cx="731520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9760" y="4834080"/>
            <a:ext cx="49528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30880" y="3081240"/>
            <a:ext cx="542124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906640" y="4038480"/>
            <a:ext cx="0" cy="79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00" y="808200"/>
            <a:ext cx="124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0280" y="2700360"/>
            <a:ext cx="110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30880" y="5032440"/>
            <a:ext cx="312408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163440"/>
            <a:ext cx="8305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mantic Mismatch between Wikipedia and DB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92640" y="4313160"/>
            <a:ext cx="4832280" cy="3176640"/>
            <a:chOff x="5192640" y="4313160"/>
            <a:chExt cx="4832280" cy="317664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94560" y="4313160"/>
              <a:ext cx="2430360" cy="31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5192640" y="7056360"/>
              <a:ext cx="23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stor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" y="1798560"/>
          <a:ext cx="9435960" cy="4969080"/>
        </p:xfrm>
        <a:graphic>
          <a:graphicData uri="http://schemas.openxmlformats.org/drawingml/2006/table">
            <a:tbl>
              <a:tblPr/>
              <a:tblGrid>
                <a:gridCol w="3144600"/>
                <a:gridCol w="3111480"/>
                <a:gridCol w="3179880"/>
              </a:tblGrid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gro 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 Hierarchy In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De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software (e.g., Pubb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78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 Fed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Spaces (SPARQL against resource URI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 (Sesame and Oracle only). For other triplestores, a 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middleware approach is requi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3280" y="42696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ed 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eDeR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4360" y="3246480"/>
            <a:ext cx="4495680" cy="762120"/>
          </a:xfrm>
          <a:prstGeom prst="rect">
            <a:avLst/>
          </a:pr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18600" y="2255760"/>
            <a:ext cx="19958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derat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8080" y="2637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3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987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4008600"/>
            <a:ext cx="16761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8080" y="4008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2640" y="4008600"/>
            <a:ext cx="28958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4040" y="4465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17560" y="4923000"/>
            <a:ext cx="16682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0680" y="5913360"/>
            <a:ext cx="111960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8440" y="5913360"/>
            <a:ext cx="105552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0760" y="3322800"/>
            <a:ext cx="124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ion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6600" y="1362240"/>
            <a:ext cx="93409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b: &lt;http://www.w3.org/2003/01/21-RDF-RDB-access/ns#SqlDB?properties=..%2Ftest%2F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re: &lt;http://receptor.example/re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p: &lt;http://receptor.example/dp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?abstract ?code ?ligand ?hum_seq_id ?chr ?refse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IUPHAR.pr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DBPedia.rd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the (SQL) IUPHAR receptor t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IUPHAR.prop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Co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ode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Ligand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ligand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Human_nucleoti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hum_seq_id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(RDF) DBPed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DBPedia.rdf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chromosom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hr .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refseq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efseq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symbo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symbol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b:abstrac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abstract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301320"/>
            <a:ext cx="9905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Join between IUAPHAR &amp; DBPedi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ABAB recep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86360" y="1984320"/>
            <a:ext cx="4114800" cy="393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170160"/>
            <a:ext cx="5726160" cy="984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19880" y="4683240"/>
            <a:ext cx="685800" cy="12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7920" y="4651200"/>
            <a:ext cx="106668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62440" y="3170160"/>
            <a:ext cx="943200" cy="171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8280" y="3780000"/>
            <a:ext cx="83844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9840" y="3246480"/>
            <a:ext cx="30492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92640" y="4008600"/>
            <a:ext cx="2210040" cy="1143000"/>
          </a:xfrm>
          <a:custGeom>
            <a:avLst/>
            <a:gdLst/>
            <a:ahLst/>
            <a:rect l="l" t="t" r="r" b="b"/>
            <a:pathLst>
              <a:path w="1392" h="720">
                <a:moveTo>
                  <a:pt x="0" y="0"/>
                </a:moveTo>
                <a:lnTo>
                  <a:pt x="0" y="720"/>
                </a:lnTo>
                <a:lnTo>
                  <a:pt x="1248" y="720"/>
                </a:lnTo>
                <a:lnTo>
                  <a:pt x="1248" y="432"/>
                </a:lnTo>
                <a:lnTo>
                  <a:pt x="1392" y="432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7120" y="6066000"/>
            <a:ext cx="111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47040" y="4237200"/>
            <a:ext cx="105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HCLS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alue and use of HCLS KB by identifying scientific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human-friendly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publish findings to help accelerate/promote adoption of the Semantic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, pharmaceutical companies, start-up companies, government institutes, W3C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D: vocabulary of interlinked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66520"/>
            <a:ext cx="907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ive Datase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icient Discovery of Datasets, by search engines or data publis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RQL query optimisation and query fe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high-level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set: a dataset is published and maintained by a single provider and accessible on the Web through de-referenceable URIs or a SPARQ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nkset: a subset of a void:Dataset; store triples to express the interlinking relationship between data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Vocabulary, http://rdfs.org/ns/void/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User's Guide, http://rdfs.org/ns/void-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Dataset in voi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040" y="1569960"/>
            <a:ext cx="9372600" cy="3886200"/>
          </a:xfrm>
          <a:prstGeom prst="roundRect">
            <a:avLst>
              <a:gd name="adj" fmla="val 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1798560"/>
            <a:ext cx="90961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enselabontology a void:Dataset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title "SenseLab Neuron Ontology"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description "Neuroscience ontology derived from the SenseLab NeuronDB database.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license &lt;&gt; ;    # 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af:homepage   &lt;http://neuroweb.med.yale.edu/senselab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science/owl/sciencecommons/identified_by_pmid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has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NMDA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creator  :senselab ; ## this organization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 &lt;http://purl.org/ycmi/senselab/neuron_ontology.owl#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purl.org/ycmi/senselab/neuron_ontology.owl#Receptor&gt;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Receptor_(biochemistry)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Neurotransmitter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Sensory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&lt;doi:10.1093/bib/bbm018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feature :owl ; ## this technical feature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sparqlEndpoint &lt;http://hcls.deri.org:8080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vocabulary &lt;http://www.obofoundry.org/ro/ro.owl&gt;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i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loy a voiD file (in either Turtle, RDF/XML or RDFa format) onto the Web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accessible to search engines, such as Sindice (http://sindice.com/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a Semantic Sitemap file (sitemap.xml) on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 allows Data publishers to state where documents containing RDF data are located, and to advertise alternative means to access it ......”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setURI property in the sitemap.xml to point to the voiD description of a dataset, e.g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uroweb.med.yale.edu/senselab/senselab-void.ttl#senselab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http://sw.deri.org/2007/07/sitemapextens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9400" y="1569960"/>
            <a:ext cx="948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tion of synonymous URI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bpedia.org/resource/Dopamine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url.org/ycmi/senselab/neuron_ontology.owl#Dopaminergic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of nomenclature committee (e.g., IUPHAR) and domain authority (e.g., Neuroscience Information Framework or N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/permanent URI scheme (e.g., PU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ttp://purl.org/nif/ontology/NIF-Molecule.owl#nifext_58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eable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eferenceable URI is a resource identification mechanism that uses the HTTP protocol to obtain a representation of the resource it identif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ked Data, the representation takes the form of an information resource that describes the resource that the URI identif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paper describing the query federation work to a journal o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nd extend current tasks: Query Federation and a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mantic wiki, workflow, user interfa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HCLS KB (both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ew datasets such as 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other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LODD (natural alternative use case, Faviki) and SWAN/S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 Activities/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S, NCBO, NIF, Biogateway, WikiNeuron, Gene Wiki, 3D Web Visualization, BioSIOC/aTag, 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S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stances of HCLS KB have been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 (Virtuos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University in Berlin (Allegro Grap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Lab and TCMGen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scienc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receptors to th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thias Samwald, Kei Che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Cheung, Rob Frost, Kingsley Idehen, Scott Marshall, Adrian Paschke , Eric Prud’hommeaux, Matthias Samwald, Jun Zh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: Neuron and 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68400" y="7031160"/>
            <a:ext cx="1857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rtesy of 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4160" y="4368960"/>
            <a:ext cx="3886200" cy="26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96252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04160" y="22557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708520" y="1265400"/>
            <a:ext cx="3657600" cy="2666880"/>
            <a:chOff x="5708520" y="1265400"/>
            <a:chExt cx="3657600" cy="26668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08520" y="12654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7025760" y="2516040"/>
              <a:ext cx="703080" cy="205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07920" y="808200"/>
            <a:ext cx="3962520" cy="26748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870440" y="960480"/>
            <a:ext cx="1904760" cy="304560"/>
            <a:chOff x="4870440" y="960480"/>
            <a:chExt cx="1904760" cy="304560"/>
          </a:xfrm>
        </p:grpSpPr>
        <p:sp>
          <p:nvSpPr>
            <p:cNvPr id="64" name=""/>
            <p:cNvSpPr/>
            <p:nvPr/>
          </p:nvSpPr>
          <p:spPr>
            <a:xfrm>
              <a:off x="4870440" y="960480"/>
              <a:ext cx="1904760" cy="304560"/>
            </a:xfrm>
            <a:custGeom>
              <a:avLst/>
              <a:gdLst/>
              <a:ahLst/>
              <a:rect l="l" t="t" r="r" b="b"/>
              <a:pathLst>
                <a:path w="1200" h="192">
                  <a:moveTo>
                    <a:pt x="0" y="0"/>
                  </a:moveTo>
                  <a:cubicBezTo>
                    <a:pt x="284" y="8"/>
                    <a:pt x="568" y="16"/>
                    <a:pt x="768" y="48"/>
                  </a:cubicBezTo>
                  <a:cubicBezTo>
                    <a:pt x="968" y="80"/>
                    <a:pt x="1084" y="136"/>
                    <a:pt x="1200" y="19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27520" y="1150920"/>
              <a:ext cx="228600" cy="95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248760" y="2637000"/>
            <a:ext cx="635040" cy="2666880"/>
            <a:chOff x="9248760" y="2637000"/>
            <a:chExt cx="635040" cy="2666880"/>
          </a:xfrm>
        </p:grpSpPr>
        <p:sp>
          <p:nvSpPr>
            <p:cNvPr id="67" name=""/>
            <p:cNvSpPr/>
            <p:nvPr/>
          </p:nvSpPr>
          <p:spPr>
            <a:xfrm>
              <a:off x="9248760" y="2637000"/>
              <a:ext cx="635040" cy="2666880"/>
            </a:xfrm>
            <a:custGeom>
              <a:avLst/>
              <a:gdLst/>
              <a:ahLst/>
              <a:rect l="l" t="t" r="r" b="b"/>
              <a:pathLst>
                <a:path w="592" h="1872">
                  <a:moveTo>
                    <a:pt x="96" y="0"/>
                  </a:moveTo>
                  <a:cubicBezTo>
                    <a:pt x="344" y="276"/>
                    <a:pt x="592" y="552"/>
                    <a:pt x="576" y="864"/>
                  </a:cubicBezTo>
                  <a:cubicBezTo>
                    <a:pt x="560" y="1176"/>
                    <a:pt x="280" y="1524"/>
                    <a:pt x="0" y="187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48760" y="5149800"/>
              <a:ext cx="90000" cy="15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193560" y="6579720"/>
            <a:ext cx="3243600" cy="684360"/>
            <a:chOff x="3193560" y="6579720"/>
            <a:chExt cx="3243600" cy="684360"/>
          </a:xfrm>
        </p:grpSpPr>
        <p:sp>
          <p:nvSpPr>
            <p:cNvPr id="70" name=""/>
            <p:cNvSpPr/>
            <p:nvPr/>
          </p:nvSpPr>
          <p:spPr>
            <a:xfrm>
              <a:off x="3193920" y="6595200"/>
              <a:ext cx="3243240" cy="668880"/>
            </a:xfrm>
            <a:custGeom>
              <a:avLst/>
              <a:gdLst/>
              <a:ahLst/>
              <a:rect l="l" t="t" r="r" b="b"/>
              <a:pathLst>
                <a:path w="2352" h="528">
                  <a:moveTo>
                    <a:pt x="2352" y="288"/>
                  </a:moveTo>
                  <a:cubicBezTo>
                    <a:pt x="1828" y="408"/>
                    <a:pt x="1304" y="528"/>
                    <a:pt x="912" y="480"/>
                  </a:cubicBezTo>
                  <a:cubicBezTo>
                    <a:pt x="520" y="432"/>
                    <a:pt x="260" y="216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193560" y="6579720"/>
              <a:ext cx="99000" cy="9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2040" y="2844360"/>
            <a:ext cx="482400" cy="2362320"/>
            <a:chOff x="392040" y="2844360"/>
            <a:chExt cx="482400" cy="2362320"/>
          </a:xfrm>
        </p:grpSpPr>
        <p:sp>
          <p:nvSpPr>
            <p:cNvPr id="73" name=""/>
            <p:cNvSpPr/>
            <p:nvPr/>
          </p:nvSpPr>
          <p:spPr>
            <a:xfrm>
              <a:off x="392040" y="2844720"/>
              <a:ext cx="482400" cy="2361960"/>
            </a:xfrm>
            <a:custGeom>
              <a:avLst/>
              <a:gdLst/>
              <a:ahLst/>
              <a:rect l="l" t="t" r="r" b="b"/>
              <a:pathLst>
                <a:path w="304" h="1488">
                  <a:moveTo>
                    <a:pt x="208" y="1488"/>
                  </a:moveTo>
                  <a:cubicBezTo>
                    <a:pt x="104" y="1204"/>
                    <a:pt x="0" y="920"/>
                    <a:pt x="16" y="672"/>
                  </a:cubicBezTo>
                  <a:cubicBezTo>
                    <a:pt x="32" y="424"/>
                    <a:pt x="168" y="212"/>
                    <a:pt x="30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400" y="2844360"/>
              <a:ext cx="9504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y simple, generic way of expressing biomedic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hort snippet of text + a list of ontology terms used for describ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established vocabulary (SIOC, OBO ontolo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coded in RDFa (easy to embed in existing HTML-based syste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7600" y="2394000"/>
            <a:ext cx="6962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ransmitter 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ems 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ctiva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3800" y="3780000"/>
            <a:ext cx="757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is expressed 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ai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5111640"/>
            <a:ext cx="106664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s strong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xon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brain region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ags will be crea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version of existing biomedica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ual curation of data (highlight text snippet in browser &amp; click on del.icio.us – like bookmark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sign philosophy: simplicity and pract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exist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y along with existing systems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TML content management, RDFa-enabled search eng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kc28</cp:lastModifiedBy>
  <dcterms:modified xsi:type="dcterms:W3CDTF">2009-02-24T21:26:07Z</dcterms:modified>
  <cp:revision>18</cp:revision>
  <dc:subject/>
  <dc:title>voiD: vocabulary of interlinked Datasets</dc:title>
</cp:coreProperties>
</file>